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1A9-5937-441A-96F6-BC8C5016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63E-8DA5-4BC9-A08A-6FD553B0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6DC-818B-47AA-8A1D-2687FB26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FA3-C760-4D65-B492-5A592ADF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939-D0CD-46B7-8093-B53FDBAE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A03-E2A8-42F3-A019-BE61FAF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48C-9123-4E8B-8A82-DE185C81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0ED-4EA4-41E6-82BB-026DC496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BEF-C66A-4F07-B58D-DF43937F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CB5-53CC-4642-A0A7-DF9A5D6E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D36-323C-42DB-9A2A-BFBCF90D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DB0-29E7-4F6E-8116-B91888EA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3EFF-A0FC-4BBC-84E4-EB405ADBDA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o 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B4DD-4B8E-482D-99B2-9905DAC5D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7696080" cy="1066680"/>
          </a:xfrm>
          <a:prstGeom prst="rect">
            <a:avLst/>
          </a:prstGeom>
          <a:solidFill>
            <a:srgbClr val="62fe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962840" y="266760"/>
            <a:ext cx="1054080" cy="825480"/>
          </a:xfrm>
          <a:custGeom>
            <a:avLst/>
            <a:gdLst/>
            <a:ahLst/>
            <a:rect l="l" t="t" r="r" b="b"/>
            <a:pathLst>
              <a:path w="664" h="520">
                <a:moveTo>
                  <a:pt x="24" y="216"/>
                </a:moveTo>
                <a:cubicBezTo>
                  <a:pt x="40" y="200"/>
                  <a:pt x="85" y="106"/>
                  <a:pt x="120" y="72"/>
                </a:cubicBezTo>
                <a:cubicBezTo>
                  <a:pt x="155" y="38"/>
                  <a:pt x="198" y="16"/>
                  <a:pt x="238" y="8"/>
                </a:cubicBezTo>
                <a:cubicBezTo>
                  <a:pt x="278" y="0"/>
                  <a:pt x="324" y="13"/>
                  <a:pt x="360" y="24"/>
                </a:cubicBezTo>
                <a:cubicBezTo>
                  <a:pt x="396" y="35"/>
                  <a:pt x="432" y="40"/>
                  <a:pt x="456" y="72"/>
                </a:cubicBezTo>
                <a:cubicBezTo>
                  <a:pt x="480" y="104"/>
                  <a:pt x="472" y="176"/>
                  <a:pt x="504" y="216"/>
                </a:cubicBezTo>
                <a:cubicBezTo>
                  <a:pt x="536" y="256"/>
                  <a:pt x="664" y="288"/>
                  <a:pt x="648" y="312"/>
                </a:cubicBezTo>
                <a:cubicBezTo>
                  <a:pt x="632" y="336"/>
                  <a:pt x="440" y="376"/>
                  <a:pt x="408" y="360"/>
                </a:cubicBezTo>
                <a:cubicBezTo>
                  <a:pt x="376" y="344"/>
                  <a:pt x="458" y="250"/>
                  <a:pt x="456" y="216"/>
                </a:cubicBezTo>
                <a:cubicBezTo>
                  <a:pt x="454" y="182"/>
                  <a:pt x="417" y="171"/>
                  <a:pt x="393" y="155"/>
                </a:cubicBezTo>
                <a:cubicBezTo>
                  <a:pt x="369" y="139"/>
                  <a:pt x="333" y="118"/>
                  <a:pt x="312" y="120"/>
                </a:cubicBezTo>
                <a:cubicBezTo>
                  <a:pt x="291" y="122"/>
                  <a:pt x="288" y="144"/>
                  <a:pt x="264" y="168"/>
                </a:cubicBezTo>
                <a:cubicBezTo>
                  <a:pt x="240" y="192"/>
                  <a:pt x="208" y="208"/>
                  <a:pt x="168" y="264"/>
                </a:cubicBezTo>
                <a:cubicBezTo>
                  <a:pt x="128" y="320"/>
                  <a:pt x="48" y="520"/>
                  <a:pt x="24" y="504"/>
                </a:cubicBezTo>
                <a:cubicBezTo>
                  <a:pt x="0" y="488"/>
                  <a:pt x="24" y="216"/>
                  <a:pt x="24" y="168"/>
                </a:cubicBezTo>
                <a:cubicBezTo>
                  <a:pt x="24" y="120"/>
                  <a:pt x="8" y="232"/>
                  <a:pt x="24" y="216"/>
                </a:cubicBezTo>
                <a:close/>
              </a:path>
            </a:pathLst>
          </a:custGeom>
          <a:solidFill>
            <a:srgbClr val="62fe8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534160" y="914400"/>
            <a:ext cx="152280" cy="45720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8686800" y="914400"/>
            <a:ext cx="76320" cy="53352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839080" y="914400"/>
            <a:ext cx="0" cy="45720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 flipV="1">
            <a:off x="8915040" y="838080"/>
            <a:ext cx="228600" cy="53352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881920" y="838080"/>
            <a:ext cx="76320" cy="53352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924680" y="609480"/>
            <a:ext cx="76320" cy="457200"/>
          </a:xfrm>
          <a:prstGeom prst="rect">
            <a:avLst/>
          </a:prstGeom>
          <a:solidFill>
            <a:srgbClr val="62fe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 in the U.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s, Web,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o Wieder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Emeri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, Electrical Engineering, &amp;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o@infolab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080" y="623880"/>
            <a:ext cx="75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F, DARPA, ARO, AFRL, ONR, NIH, NLM, DHS, EPA, FDA, CA, V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772400" y="203040"/>
            <a:ext cx="1371600" cy="1549440"/>
            <a:chOff x="7772400" y="203040"/>
            <a:chExt cx="1371600" cy="1549440"/>
          </a:xfrm>
        </p:grpSpPr>
        <p:sp>
          <p:nvSpPr>
            <p:cNvPr id="53" name=""/>
            <p:cNvSpPr/>
            <p:nvPr/>
          </p:nvSpPr>
          <p:spPr>
            <a:xfrm>
              <a:off x="7772400" y="129528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743040" indent="-28584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66160" y="304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13760" y="22860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69280" y="20304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48720" y="5335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666-623D-4466-B34E-EC1B03BB152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97F5A-54CB-44A8-8354-05DF5F508B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 st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514520"/>
            <a:ext cx="7143480" cy="44290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543800" y="1600200"/>
            <a:ext cx="1600200" cy="5214600"/>
            <a:chOff x="7543800" y="1600200"/>
            <a:chExt cx="1600200" cy="5214600"/>
          </a:xfrm>
        </p:grpSpPr>
        <p:sp>
          <p:nvSpPr>
            <p:cNvPr id="92" name=""/>
            <p:cNvSpPr/>
            <p:nvPr/>
          </p:nvSpPr>
          <p:spPr>
            <a:xfrm>
              <a:off x="7543800" y="1600200"/>
              <a:ext cx="1600200" cy="472428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46840" y="2057400"/>
              <a:ext cx="121932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rease at DARPA is also less than inflation, but better than NSF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Y 2007 amount is hope, not f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912-9CED-4781-9AD4-E07F3B51AC3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90B77-9E9D-4D92-AF19-3F0001773C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7153560" cy="5410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81080" y="6248520"/>
            <a:ext cx="2210040" cy="457200"/>
          </a:xfrm>
          <a:prstGeom prst="rect">
            <a:avLst/>
          </a:prstGeom>
          <a:solidFill>
            <a:srgbClr val="e9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      F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800" y="2286000"/>
            <a:ext cx="76320" cy="43434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543800" y="1295280"/>
            <a:ext cx="1600200" cy="5022720"/>
            <a:chOff x="7543800" y="1295280"/>
            <a:chExt cx="1600200" cy="5022720"/>
          </a:xfrm>
        </p:grpSpPr>
        <p:sp>
          <p:nvSpPr>
            <p:cNvPr id="99" name=""/>
            <p:cNvSpPr/>
            <p:nvPr/>
          </p:nvSpPr>
          <p:spPr>
            <a:xfrm>
              <a:off x="7543800" y="1295280"/>
              <a:ext cx="1600200" cy="50227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46840" y="1781280"/>
              <a:ext cx="1219320" cy="34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 can universities effectively contribute to these goal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AD2-4049-4F85-82DA-A8B3E0A8D0D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566EC-9622-42A7-B24E-BC282610C0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32000"/>
            <a:ext cx="670572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7543800" y="1295280"/>
            <a:ext cx="1600200" cy="5022720"/>
            <a:chOff x="7543800" y="1295280"/>
            <a:chExt cx="1600200" cy="5022720"/>
          </a:xfrm>
        </p:grpSpPr>
        <p:sp>
          <p:nvSpPr>
            <p:cNvPr id="104" name=""/>
            <p:cNvSpPr/>
            <p:nvPr/>
          </p:nvSpPr>
          <p:spPr>
            <a:xfrm>
              <a:off x="7543800" y="1295280"/>
              <a:ext cx="1600200" cy="50227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46840" y="1781280"/>
              <a:ext cx="1219320" cy="43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bs and universities compe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tasks are urgent, labs promise faster result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bsmake great demo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90B-F311-4FCF-A64D-BC11B96125A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7FF0E-E7E4-46A4-A82A-1CB2B1B225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challenge robot dem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428840"/>
            <a:ext cx="7143840" cy="53528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7543800" y="1530360"/>
            <a:ext cx="1600200" cy="5022360"/>
            <a:chOff x="7543800" y="1530360"/>
            <a:chExt cx="1600200" cy="5022360"/>
          </a:xfrm>
        </p:grpSpPr>
        <p:sp>
          <p:nvSpPr>
            <p:cNvPr id="109" name=""/>
            <p:cNvSpPr/>
            <p:nvPr/>
          </p:nvSpPr>
          <p:spPr>
            <a:xfrm>
              <a:off x="7543800" y="1530360"/>
              <a:ext cx="1600200" cy="502236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46840" y="2016360"/>
              <a:ext cx="1219320" cy="32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5 teams registered to compe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5 university tea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high school tea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36F-DA22-41D8-A7E8-E9E5BDC93AB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6909D-DE52-4953-8EE2-DF6235F79D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cost to to DAR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438200"/>
            <a:ext cx="7391520" cy="51339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7391520" y="1295280"/>
            <a:ext cx="1752120" cy="5022720"/>
            <a:chOff x="7391520" y="1295280"/>
            <a:chExt cx="1752120" cy="5022720"/>
          </a:xfrm>
        </p:grpSpPr>
        <p:sp>
          <p:nvSpPr>
            <p:cNvPr id="114" name=""/>
            <p:cNvSpPr/>
            <p:nvPr/>
          </p:nvSpPr>
          <p:spPr>
            <a:xfrm>
              <a:off x="7391520" y="1295280"/>
              <a:ext cx="1752120" cy="50227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13640" y="1781280"/>
              <a:ext cx="133524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ploit enthusiasm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money until won.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B14-B7DA-4033-B294-02F564EA3D2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FC082-2669-4B0A-B109-CFF397CB14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ity researchers wor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7143840" cy="55054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315200" y="1530360"/>
            <a:ext cx="1752120" cy="5022360"/>
            <a:chOff x="7315200" y="1530360"/>
            <a:chExt cx="1752120" cy="5022360"/>
          </a:xfrm>
        </p:grpSpPr>
        <p:sp>
          <p:nvSpPr>
            <p:cNvPr id="119" name=""/>
            <p:cNvSpPr/>
            <p:nvPr/>
          </p:nvSpPr>
          <p:spPr>
            <a:xfrm>
              <a:off x="7315200" y="1530360"/>
              <a:ext cx="1752120" cy="502236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37320" y="2016360"/>
              <a:ext cx="1335240" cy="44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ponse to concern expressed in March Hennessy-Patterson article in Scienc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ger universities have lost much, some smaller universities have gaine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E3D-6861-48F1-8612-F876312ED0E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D39C3-E721-4AC6-979D-2BDEDEB601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oD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: Army Research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L: Air Force Research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R: office of Nav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gents, co-funders of DARPA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, less congression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ly stable research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funders, resear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needed to join the 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due FY 2007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Base Closing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4D3-FA1E-492A-9580-33565EFFAF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5012D-456A-4A96-A332-7307E3AE6B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: NIH, N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ield with growth, cost 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S researchers are inte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are compe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nderstand difference in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 sciences: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= a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sciences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y, unknown  confoun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 repeat similar case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utational research funding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time and effort to gain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A problem with NSF reviews of biology propos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65C-5CAA-4146-9743-47DAD37EB5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41FFC-F71E-48AB-A383-11879E5508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6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governmental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, naïve, under pressure to per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dependence on outside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research funding &lt; 3% of extram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DA initiative, joint with other agencies: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 how to identify terrorist precurs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ta mining attempts: finds frequent, unexpect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norm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ts though means knowing first  what is normal, needs extensive subtopic worl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issues in other govern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711-BAFD-40C9-9346-ABE95AD064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B4D92-2ABD-451C-8A4D-124FB0D729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ure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ature than in the dot.com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t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edetermined rules on what will they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ell established rules on business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 to engage in lenghty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r potential user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sustainment – needed for follow-up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monitor progress clo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390-CE6C-4396-B886-0379EAEAA7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8E24C-B643-4322-B68A-3A0CC2CE59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, divers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F – academically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R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reas – geograph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ARPA – projec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6.1, pre-development 6.2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ilitary agencies: ARO, AFRL, ON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Goverment dept's – mission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H, NLM, Homeland, FEMA, ... : in fl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 capitalists – profi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business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09C-D9DD-4E7F-9EF6-0C35BAB1FB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505CB-CDCE-4881-98C3-F4161DCCC9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gh times, but pos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lmeyer's Catechism still holds for fundable propos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What is the problem, why is it h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How is it solved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What is the new technical idea; why can we succeed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hat is the impact if successfu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How will the program be organiz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How will intermediate results be gener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How will you measure prog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What will it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eorge Heilmeyer, ex ARPA director, then TI, GE Aero, then Bellcore, retired?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uccess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074-F4FA-4155-863D-CA67A4F656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235B1-7BB7-4262-8BEE-F4663408EF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S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initiated by research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primarily by other academ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Quality. Novelty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irness, Social 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alls for research in specific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topics?  But overload are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ew funds, but cannibalize existing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mphasis in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more researchers with less per researc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 of communication – MITI / EC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CA1B-223A-49C3-83A2-AD26AFDF46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A0512-9DAC-4B30-A6EC-AE7786ADE6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SF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budget pressure due to huge defic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funding at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ional pres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of IT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pth and in brea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, divers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dended by prior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ttle/no growth new funding gets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 rate &lt; 10% of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590-4269-4A9B-A9F4-C8F382ADA39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AFD02-CE5D-4B67-AE43-3EE3E5A0E3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D)AR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jects agency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fund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manager devises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→Demo→Development→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Lab or Universit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Lab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ontract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2800" spc="-1" strike="noStrike">
                <a:solidFill>
                  <a:srgbClr val="5fb6bd"/>
                </a:solidFill>
                <a:latin typeface="Arial"/>
              </a:rPr>
              <a:t>Industry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s differ on type of problem,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ten subcontra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3: Intelligent Information Integration for intelligenc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lab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he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&amp;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blic data: sub to NSF 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librari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NSF, NA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590-2657-4EDC-ACC8-05DCC5ED60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4521D-8CBB-4679-B809-FD5BFC2EF5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t Briefing to 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7153200" cy="49816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7543800" y="1066680"/>
            <a:ext cx="1600200" cy="5425920"/>
            <a:chOff x="7543800" y="1066680"/>
            <a:chExt cx="1600200" cy="5425920"/>
          </a:xfrm>
        </p:grpSpPr>
        <p:sp>
          <p:nvSpPr>
            <p:cNvPr id="69" name=""/>
            <p:cNvSpPr/>
            <p:nvPr/>
          </p:nvSpPr>
          <p:spPr>
            <a:xfrm>
              <a:off x="7543800" y="1066680"/>
              <a:ext cx="1600200" cy="54259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46840" y="1591560"/>
              <a:ext cx="1219320" cy="47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sonal comments;not the view of the govern-men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RPA –Conservative, hands-off industry view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RPA – Govern-ment tries to manage industrial/ social rela-tionships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73424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4BF-128A-422E-90D5-0BECB4C2640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F7398-A0EA-4BD9-B81C-5C828E71B4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428840"/>
            <a:ext cx="7143840" cy="5352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769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315200" y="1682640"/>
            <a:ext cx="1752120" cy="5022720"/>
            <a:chOff x="7315200" y="1682640"/>
            <a:chExt cx="1752120" cy="5022720"/>
          </a:xfrm>
        </p:grpSpPr>
        <p:sp>
          <p:nvSpPr>
            <p:cNvPr id="76" name=""/>
            <p:cNvSpPr/>
            <p:nvPr/>
          </p:nvSpPr>
          <p:spPr>
            <a:xfrm>
              <a:off x="7315200" y="1682640"/>
              <a:ext cx="1752120" cy="502272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37320" y="2168640"/>
              <a:ext cx="1335240" cy="31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Y2005 is the current reques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Y2006 is the current hop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This slide from end of briefing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143000" y="6477120"/>
            <a:ext cx="914400" cy="0"/>
          </a:xfrm>
          <a:prstGeom prst="line">
            <a:avLst/>
          </a:prstGeom>
          <a:ln w="38160">
            <a:solidFill>
              <a:srgbClr val="e1d96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E5F-A940-4B34-9BE7-8951F3922B6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05CC8-31D5-4AA0-9A2F-251BF0E857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rol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352520"/>
            <a:ext cx="7143840" cy="5353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7543800" y="1600200"/>
            <a:ext cx="1600200" cy="4724280"/>
            <a:chOff x="7543800" y="1600200"/>
            <a:chExt cx="1600200" cy="4724280"/>
          </a:xfrm>
        </p:grpSpPr>
        <p:sp>
          <p:nvSpPr>
            <p:cNvPr id="82" name=""/>
            <p:cNvSpPr/>
            <p:nvPr/>
          </p:nvSpPr>
          <p:spPr>
            <a:xfrm>
              <a:off x="7543800" y="1600200"/>
              <a:ext cx="1600200" cy="472428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46840" y="2057400"/>
              <a:ext cx="1219320" cy="39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:Basic research is either curiosity-driven research or fundamen-tal researc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cepts needed &amp; inventions exist already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188-7B65-415F-B039-B64598F014A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71E16-DA56-44AE-ABCF-C21C481F60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1352520"/>
            <a:ext cx="7143480" cy="53532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7543800" y="1600200"/>
            <a:ext cx="1600200" cy="4724280"/>
            <a:chOff x="7543800" y="1600200"/>
            <a:chExt cx="1600200" cy="4724280"/>
          </a:xfrm>
        </p:grpSpPr>
        <p:sp>
          <p:nvSpPr>
            <p:cNvPr id="87" name=""/>
            <p:cNvSpPr/>
            <p:nvPr/>
          </p:nvSpPr>
          <p:spPr>
            <a:xfrm>
              <a:off x="7543800" y="1600200"/>
              <a:ext cx="1600200" cy="4724280"/>
            </a:xfrm>
            <a:prstGeom prst="verticalScroll">
              <a:avLst>
                <a:gd name="adj" fmla="val 12500"/>
              </a:avLst>
            </a:prstGeom>
            <a:solidFill>
              <a:srgbClr val="e9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46840" y="2057400"/>
              <a:ext cx="1219320" cy="38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ormation technology is a small fracti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t part of many ap-plic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Gadgets make pretty pictures. Software does not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EA3-09B0-4D1D-BF2A-221C7627CC7E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37198-15BA-46D0-A42B-3C5CD077C0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3:46Z</dcterms:created>
  <dc:creator>Gio Wiederhold</dc:creator>
  <dc:description/>
  <dc:language>en-US</dc:language>
  <cp:lastModifiedBy>Gio Wiederhold</cp:lastModifiedBy>
  <dcterms:modified xsi:type="dcterms:W3CDTF">2005-05-31T08:27:30Z</dcterms:modified>
  <cp:revision>23</cp:revision>
  <dc:subject/>
  <dc:title>Funding in the U.S. Semantics, Web, Services</dc:title>
</cp:coreProperties>
</file>