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CFB3-1848-4E34-92BE-F33AD073A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7D18-F5B6-4659-92AD-5BE5A53A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F894-BE70-4232-AC37-7DDC6BD96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A302-7759-43AB-ADFF-24ABAF307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7887-DDE1-49E2-B671-BE7EAC0F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3DA7-5DCA-47C1-9756-DEBA84D3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1CE7-9318-477D-971D-C77205D3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0B0E-8AC1-45D8-9929-C4AF20C6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73152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48F0-41D9-4266-847A-3357D28C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0D77-1F66-4BA2-B7EB-F7C3E04B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FEAA-21B6-4330-8D0C-DEF6DD7B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5CAD-0F16-4C28-8F2C-8DDE8426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7680"/>
            <a:ext cx="213372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1ED0-850E-486F-873D-0CBB7FBDEB0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7680"/>
            <a:ext cx="289584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o Fu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7680"/>
            <a:ext cx="213372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1A3C-ED5A-4508-A6F5-FFA081587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228600"/>
            <a:ext cx="7696080" cy="1066680"/>
          </a:xfrm>
          <a:prstGeom prst="rect">
            <a:avLst/>
          </a:prstGeom>
          <a:solidFill>
            <a:srgbClr val="62fe8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962840" y="266760"/>
            <a:ext cx="1054080" cy="825480"/>
          </a:xfrm>
          <a:custGeom>
            <a:avLst/>
            <a:gdLst/>
            <a:ahLst/>
            <a:rect l="l" t="t" r="r" b="b"/>
            <a:pathLst>
              <a:path w="664" h="520">
                <a:moveTo>
                  <a:pt x="24" y="216"/>
                </a:moveTo>
                <a:cubicBezTo>
                  <a:pt x="40" y="200"/>
                  <a:pt x="85" y="106"/>
                  <a:pt x="120" y="72"/>
                </a:cubicBezTo>
                <a:cubicBezTo>
                  <a:pt x="155" y="38"/>
                  <a:pt x="198" y="16"/>
                  <a:pt x="238" y="8"/>
                </a:cubicBezTo>
                <a:cubicBezTo>
                  <a:pt x="278" y="0"/>
                  <a:pt x="324" y="13"/>
                  <a:pt x="360" y="24"/>
                </a:cubicBezTo>
                <a:cubicBezTo>
                  <a:pt x="396" y="35"/>
                  <a:pt x="432" y="40"/>
                  <a:pt x="456" y="72"/>
                </a:cubicBezTo>
                <a:cubicBezTo>
                  <a:pt x="480" y="104"/>
                  <a:pt x="472" y="176"/>
                  <a:pt x="504" y="216"/>
                </a:cubicBezTo>
                <a:cubicBezTo>
                  <a:pt x="536" y="256"/>
                  <a:pt x="664" y="288"/>
                  <a:pt x="648" y="312"/>
                </a:cubicBezTo>
                <a:cubicBezTo>
                  <a:pt x="632" y="336"/>
                  <a:pt x="440" y="376"/>
                  <a:pt x="408" y="360"/>
                </a:cubicBezTo>
                <a:cubicBezTo>
                  <a:pt x="376" y="344"/>
                  <a:pt x="458" y="250"/>
                  <a:pt x="456" y="216"/>
                </a:cubicBezTo>
                <a:cubicBezTo>
                  <a:pt x="454" y="182"/>
                  <a:pt x="417" y="171"/>
                  <a:pt x="393" y="155"/>
                </a:cubicBezTo>
                <a:cubicBezTo>
                  <a:pt x="369" y="139"/>
                  <a:pt x="333" y="118"/>
                  <a:pt x="312" y="120"/>
                </a:cubicBezTo>
                <a:cubicBezTo>
                  <a:pt x="291" y="122"/>
                  <a:pt x="288" y="144"/>
                  <a:pt x="264" y="168"/>
                </a:cubicBezTo>
                <a:cubicBezTo>
                  <a:pt x="240" y="192"/>
                  <a:pt x="208" y="208"/>
                  <a:pt x="168" y="264"/>
                </a:cubicBezTo>
                <a:cubicBezTo>
                  <a:pt x="128" y="320"/>
                  <a:pt x="48" y="520"/>
                  <a:pt x="24" y="504"/>
                </a:cubicBezTo>
                <a:cubicBezTo>
                  <a:pt x="0" y="488"/>
                  <a:pt x="24" y="216"/>
                  <a:pt x="24" y="168"/>
                </a:cubicBezTo>
                <a:cubicBezTo>
                  <a:pt x="24" y="120"/>
                  <a:pt x="8" y="232"/>
                  <a:pt x="24" y="216"/>
                </a:cubicBezTo>
                <a:close/>
              </a:path>
            </a:pathLst>
          </a:custGeom>
          <a:solidFill>
            <a:srgbClr val="62fe8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8534160" y="914400"/>
            <a:ext cx="152280" cy="457200"/>
          </a:xfrm>
          <a:prstGeom prst="line">
            <a:avLst/>
          </a:prstGeom>
          <a:ln w="28440">
            <a:solidFill>
              <a:srgbClr val="bbe0e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8686800" y="914400"/>
            <a:ext cx="76320" cy="533520"/>
          </a:xfrm>
          <a:prstGeom prst="line">
            <a:avLst/>
          </a:prstGeom>
          <a:ln w="28440">
            <a:solidFill>
              <a:srgbClr val="bbe0e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839080" y="914400"/>
            <a:ext cx="0" cy="457200"/>
          </a:xfrm>
          <a:prstGeom prst="line">
            <a:avLst/>
          </a:prstGeom>
          <a:ln w="28440">
            <a:solidFill>
              <a:srgbClr val="bbe0e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H="1" flipV="1">
            <a:off x="8915040" y="838080"/>
            <a:ext cx="228600" cy="533520"/>
          </a:xfrm>
          <a:prstGeom prst="line">
            <a:avLst/>
          </a:prstGeom>
          <a:ln w="28440">
            <a:solidFill>
              <a:srgbClr val="bbe0e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881920" y="838080"/>
            <a:ext cx="76320" cy="533520"/>
          </a:xfrm>
          <a:prstGeom prst="line">
            <a:avLst/>
          </a:prstGeom>
          <a:ln w="28440">
            <a:solidFill>
              <a:srgbClr val="bbe0e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7924680" y="609480"/>
            <a:ext cx="76320" cy="457200"/>
          </a:xfrm>
          <a:prstGeom prst="rect">
            <a:avLst/>
          </a:prstGeom>
          <a:solidFill>
            <a:srgbClr val="62fe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 in the U.S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antics, Web,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2120" y="33523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o Wiederh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ford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or Emeri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Science, Electrical Engineering, &amp;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o@infolab.stanford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2080" y="623880"/>
            <a:ext cx="756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F, DARPA, ARO, AFRL, ONR, NIH, NLM, DHS, EPA, FDA, CA, VC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772400" y="203040"/>
            <a:ext cx="1371600" cy="1549440"/>
            <a:chOff x="7772400" y="203040"/>
            <a:chExt cx="1371600" cy="1549440"/>
          </a:xfrm>
        </p:grpSpPr>
        <p:sp>
          <p:nvSpPr>
            <p:cNvPr id="53" name=""/>
            <p:cNvSpPr/>
            <p:nvPr/>
          </p:nvSpPr>
          <p:spPr>
            <a:xfrm>
              <a:off x="7772400" y="1295280"/>
              <a:ext cx="13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743040" indent="-28584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66160" y="3049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13760" y="228600"/>
              <a:ext cx="39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69280" y="203040"/>
              <a:ext cx="39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848720" y="5335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25B7-A154-4AE3-A8D1-76E865B324E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0E61A3-2EEB-4ECF-9E64-A2A1BBEB38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dget st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04920" y="1514520"/>
            <a:ext cx="7143480" cy="442908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7543800" y="1600200"/>
            <a:ext cx="1600200" cy="5214600"/>
            <a:chOff x="7543800" y="1600200"/>
            <a:chExt cx="1600200" cy="5214600"/>
          </a:xfrm>
        </p:grpSpPr>
        <p:sp>
          <p:nvSpPr>
            <p:cNvPr id="92" name=""/>
            <p:cNvSpPr/>
            <p:nvPr/>
          </p:nvSpPr>
          <p:spPr>
            <a:xfrm>
              <a:off x="7543800" y="1600200"/>
              <a:ext cx="1600200" cy="4724280"/>
            </a:xfrm>
            <a:prstGeom prst="verticalScroll">
              <a:avLst>
                <a:gd name="adj" fmla="val 12500"/>
              </a:avLst>
            </a:prstGeom>
            <a:solidFill>
              <a:srgbClr val="e9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46840" y="2057400"/>
              <a:ext cx="1219320" cy="47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crease at DARPA is also less than inflation, but better than NSF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Y 2007 amount is hope, not fa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9EDD-424C-45BA-93C1-268E5172D904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66D8C4-5D20-4B58-A153-56851DACEC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7153560" cy="5410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81080" y="6248520"/>
            <a:ext cx="2210040" cy="457200"/>
          </a:xfrm>
          <a:prstGeom prst="rect">
            <a:avLst/>
          </a:prstGeom>
          <a:solidFill>
            <a:srgbClr val="e9f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       F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971800" y="2286000"/>
            <a:ext cx="76320" cy="43434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543800" y="1295280"/>
            <a:ext cx="1600200" cy="5022720"/>
            <a:chOff x="7543800" y="1295280"/>
            <a:chExt cx="1600200" cy="5022720"/>
          </a:xfrm>
        </p:grpSpPr>
        <p:sp>
          <p:nvSpPr>
            <p:cNvPr id="99" name=""/>
            <p:cNvSpPr/>
            <p:nvPr/>
          </p:nvSpPr>
          <p:spPr>
            <a:xfrm>
              <a:off x="7543800" y="1295280"/>
              <a:ext cx="1600200" cy="5022720"/>
            </a:xfrm>
            <a:prstGeom prst="verticalScroll">
              <a:avLst>
                <a:gd name="adj" fmla="val 12500"/>
              </a:avLst>
            </a:prstGeom>
            <a:solidFill>
              <a:srgbClr val="e9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46840" y="1781280"/>
              <a:ext cx="1219320" cy="34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hat can universities effectively contribute to these goals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D2CC-357B-499F-97D3-CAC623947BE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5FE276-80CB-4145-A863-F3CB894C9C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" y="1332000"/>
            <a:ext cx="6705720" cy="51451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7543800" y="1295280"/>
            <a:ext cx="1600200" cy="5022720"/>
            <a:chOff x="7543800" y="1295280"/>
            <a:chExt cx="1600200" cy="5022720"/>
          </a:xfrm>
        </p:grpSpPr>
        <p:sp>
          <p:nvSpPr>
            <p:cNvPr id="104" name=""/>
            <p:cNvSpPr/>
            <p:nvPr/>
          </p:nvSpPr>
          <p:spPr>
            <a:xfrm>
              <a:off x="7543800" y="1295280"/>
              <a:ext cx="1600200" cy="5022720"/>
            </a:xfrm>
            <a:prstGeom prst="verticalScroll">
              <a:avLst>
                <a:gd name="adj" fmla="val 12500"/>
              </a:avLst>
            </a:prstGeom>
            <a:solidFill>
              <a:srgbClr val="e9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46840" y="1781280"/>
              <a:ext cx="1219320" cy="43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abs and universities compete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f tasks are urgent, labs promise faster results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absmake great demos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6065-21A8-4470-BC93-AADB02BA33E2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745021-B328-4EE0-B8B3-1F513C97EC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nd challenge robot dem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8600" y="1428840"/>
            <a:ext cx="7143840" cy="535284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7543800" y="1530360"/>
            <a:ext cx="1600200" cy="5022360"/>
            <a:chOff x="7543800" y="1530360"/>
            <a:chExt cx="1600200" cy="5022360"/>
          </a:xfrm>
        </p:grpSpPr>
        <p:sp>
          <p:nvSpPr>
            <p:cNvPr id="109" name=""/>
            <p:cNvSpPr/>
            <p:nvPr/>
          </p:nvSpPr>
          <p:spPr>
            <a:xfrm>
              <a:off x="7543800" y="1530360"/>
              <a:ext cx="1600200" cy="5022360"/>
            </a:xfrm>
            <a:prstGeom prst="verticalScroll">
              <a:avLst>
                <a:gd name="adj" fmla="val 12500"/>
              </a:avLst>
            </a:prstGeom>
            <a:solidFill>
              <a:srgbClr val="e9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46840" y="2016360"/>
              <a:ext cx="1219320" cy="32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95 teams registered to compe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5 university tea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 high school tea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4DBB-C452-4F93-AF67-CD2995D8103C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603036-2EBD-4232-B687-B9E648A717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 cost to to DAR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" y="1438200"/>
            <a:ext cx="7391520" cy="513396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7391520" y="1295280"/>
            <a:ext cx="1752120" cy="5022720"/>
            <a:chOff x="7391520" y="1295280"/>
            <a:chExt cx="1752120" cy="5022720"/>
          </a:xfrm>
        </p:grpSpPr>
        <p:sp>
          <p:nvSpPr>
            <p:cNvPr id="114" name=""/>
            <p:cNvSpPr/>
            <p:nvPr/>
          </p:nvSpPr>
          <p:spPr>
            <a:xfrm>
              <a:off x="7391520" y="1295280"/>
              <a:ext cx="1752120" cy="5022720"/>
            </a:xfrm>
            <a:prstGeom prst="verticalScroll">
              <a:avLst>
                <a:gd name="adj" fmla="val 12500"/>
              </a:avLst>
            </a:prstGeom>
            <a:solidFill>
              <a:srgbClr val="e9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13640" y="1781280"/>
              <a:ext cx="133524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xploit enthusiasm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 money until won.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CDAA-CA0B-4F20-8F74-C5B41C2C7C23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AC5001-BF8A-4F62-8AD6-E6B33A1AB6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ity researchers wor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7143840" cy="55054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7315200" y="1530360"/>
            <a:ext cx="1752120" cy="5022360"/>
            <a:chOff x="7315200" y="1530360"/>
            <a:chExt cx="1752120" cy="5022360"/>
          </a:xfrm>
        </p:grpSpPr>
        <p:sp>
          <p:nvSpPr>
            <p:cNvPr id="119" name=""/>
            <p:cNvSpPr/>
            <p:nvPr/>
          </p:nvSpPr>
          <p:spPr>
            <a:xfrm>
              <a:off x="7315200" y="1530360"/>
              <a:ext cx="1752120" cy="5022360"/>
            </a:xfrm>
            <a:prstGeom prst="verticalScroll">
              <a:avLst>
                <a:gd name="adj" fmla="val 12500"/>
              </a:avLst>
            </a:prstGeom>
            <a:solidFill>
              <a:srgbClr val="e9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37320" y="2016360"/>
              <a:ext cx="1335240" cy="448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sponse to concern expressed in March Hennessy-Patterson article in Science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arger universities have lost much, some smaller universities have gained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2C62-4AF4-47B1-8E71-6F1512BA13DB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38350E-CA17-45B1-B284-F9165813A5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DoD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O: Army Research Of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RL: Air Force Research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R: office of Naval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agents, co-funders of DARPA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er, less congressional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ly stable researcher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ing funders, resear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needed to join the cl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olidation due FY 2007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of Base Closing 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9ADF-ED90-40C4-B4E3-1325BC51C70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C5B5A1-C372-4279-8E21-7AC720D3E8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lth: NIH, N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field with growth, cost 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S researchers are inter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er are compe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understand difference in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ematical sciences: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= a al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logical sciences: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ny, unknown  confound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st repeat similar cases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computational research funding r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akes time and effort to gain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A problem with NSF reviews of biology propos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DA8A-6A56-4972-9DB6-59A904D64D6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FCC73-CEDD-4D88-BED9-7AB602FB08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6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governmental age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991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land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, naïve, under pressure to per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dependence on outside consul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tle research funding &lt; 3% of extram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DA initiative, joint with other agencies: worksh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ample: how to identify terrorist precurs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ta mining attempts: finds frequent, unexpected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nd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bnorma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ts though means knowing first  what is normal, needs extensive subtopic world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issues in other government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9F9A-8FE3-4E61-B41B-9CE584F52A5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59AD02-A302-4968-8D17-7160C4A538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ure cap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ature than in the dot.com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anti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redetermined rules on what will they 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well established rules on business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ing to engage in lenghty discu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your potential user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sustainment – needed for follow-up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monitor progress clos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9D6C-5AB2-431F-80C8-7B0FEFD842F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080D7D-DE2E-49EF-9E44-583CA9FAE7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y, diverse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SF – academically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R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 out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areas – geography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)ARPA – project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6.1, pre-development 6.2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military agencies: ARO, AFRL, ON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Goverment dept's – mission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H, NLM, Homeland, FEMA, ... : in fl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ture capitalists – profit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a business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ABEB-77DE-4922-A842-145A3E413C8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261EF1-9652-491D-BA9D-516DBD3A93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ugh times, but possi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ilmeyer's Catechism still holds for fundable propos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What is the problem, why is it ha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How is it solved to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What is the new technical idea; why can we succeed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What is the impact if successful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How will the program be organiz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How will intermediate results be gener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How will you measure progr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What will it c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George Heilmeyer, ex ARPA director, then TI, GE Aero, then Bellcore, retired?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 Success!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F31A-783A-4268-9F50-AA1EA456621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794C1E-7482-4371-B01A-4B894EF84C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SF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ing initiated by research propo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ed primarily by other academ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Quality. Novelty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airness, Social val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alls for research in specific t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t topics?  But overload area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new funds, but cannibalize existing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mphasis in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 more researchers with less per researc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head of communication – MITI / EC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A1F4-B5AA-48AD-815C-C7ABAA981F9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779A7E-E2D9-4CFE-9070-F2B3075666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SF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budget pressure due to huge defic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 funding at b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ressional press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relev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of IT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epth and in bread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, diverse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dended by prior commi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ttle/no growth new funding gets 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y rate &lt; 10% of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24E4-82C6-4E8D-AC52-D841C59EBB7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7BD412-F2EA-4C6E-856B-C19FD6F575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D)AR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jects agency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 funding age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manager devises a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→Demo→Development→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De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Lab or University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Lab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Contracto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i="1" lang="en-US" sz="2800" spc="-1" strike="noStrike">
                <a:solidFill>
                  <a:srgbClr val="5fb6bd"/>
                </a:solidFill>
                <a:latin typeface="Arial"/>
              </a:rPr>
              <a:t>Industry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rtions differ on type of problem, mat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often subcontra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3: Intelligent Information Integration for intelligence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chnology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diati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 lab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khe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&amp; univers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blic data: sub to NSF 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gital librari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ith NSF, NA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324F-D7B3-486E-AE66-C93106ED159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6AAD73-A3EF-44A5-8D6A-79E95F1812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ent Briefing to Cong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7153200" cy="498168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7543800" y="1066680"/>
            <a:ext cx="1600200" cy="5425920"/>
            <a:chOff x="7543800" y="1066680"/>
            <a:chExt cx="1600200" cy="5425920"/>
          </a:xfrm>
        </p:grpSpPr>
        <p:sp>
          <p:nvSpPr>
            <p:cNvPr id="69" name=""/>
            <p:cNvSpPr/>
            <p:nvPr/>
          </p:nvSpPr>
          <p:spPr>
            <a:xfrm>
              <a:off x="7543800" y="1066680"/>
              <a:ext cx="1600200" cy="5425920"/>
            </a:xfrm>
            <a:prstGeom prst="verticalScroll">
              <a:avLst>
                <a:gd name="adj" fmla="val 12500"/>
              </a:avLst>
            </a:prstGeom>
            <a:solidFill>
              <a:srgbClr val="e9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746840" y="1591560"/>
              <a:ext cx="1219320" cy="47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ersonal comments;not the view of the govern-ment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RPA –Conservative, hands-off industry view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RPA – Govern-ment tries to manage industrial/ social rela-tionships.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773424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5C93-8B42-4AB3-83BD-D39FAFB09D4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F96558-6E5D-4F9E-9AF9-2E5C6023DD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1428840"/>
            <a:ext cx="7143840" cy="5352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876920" y="39625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7315200" y="1682640"/>
            <a:ext cx="1752120" cy="5022720"/>
            <a:chOff x="7315200" y="1682640"/>
            <a:chExt cx="1752120" cy="5022720"/>
          </a:xfrm>
        </p:grpSpPr>
        <p:sp>
          <p:nvSpPr>
            <p:cNvPr id="76" name=""/>
            <p:cNvSpPr/>
            <p:nvPr/>
          </p:nvSpPr>
          <p:spPr>
            <a:xfrm>
              <a:off x="7315200" y="1682640"/>
              <a:ext cx="1752120" cy="5022720"/>
            </a:xfrm>
            <a:prstGeom prst="verticalScroll">
              <a:avLst>
                <a:gd name="adj" fmla="val 12500"/>
              </a:avLst>
            </a:prstGeom>
            <a:solidFill>
              <a:srgbClr val="e9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537320" y="2168640"/>
              <a:ext cx="1335240" cy="31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Y2005 is the current request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Y2006 is the current hope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[This slide from end of briefing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1143000" y="6477120"/>
            <a:ext cx="914400" cy="0"/>
          </a:xfrm>
          <a:prstGeom prst="line">
            <a:avLst/>
          </a:prstGeom>
          <a:ln w="38160">
            <a:solidFill>
              <a:srgbClr val="e1d96d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D8A3-AC81-4BE9-9314-9AEA02916351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E189D-FE90-4D93-A87C-7AEDFDC06E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role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880" y="1352520"/>
            <a:ext cx="7143840" cy="535320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7543800" y="1600200"/>
            <a:ext cx="1600200" cy="4724280"/>
            <a:chOff x="7543800" y="1600200"/>
            <a:chExt cx="1600200" cy="4724280"/>
          </a:xfrm>
        </p:grpSpPr>
        <p:sp>
          <p:nvSpPr>
            <p:cNvPr id="82" name=""/>
            <p:cNvSpPr/>
            <p:nvPr/>
          </p:nvSpPr>
          <p:spPr>
            <a:xfrm>
              <a:off x="7543800" y="1600200"/>
              <a:ext cx="1600200" cy="4724280"/>
            </a:xfrm>
            <a:prstGeom prst="verticalScroll">
              <a:avLst>
                <a:gd name="adj" fmla="val 12500"/>
              </a:avLst>
            </a:prstGeom>
            <a:solidFill>
              <a:srgbClr val="e9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746840" y="2057400"/>
              <a:ext cx="1219320" cy="39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te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:Basic research is either curiosity-driven research or fundamen-tal research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cepts needed &amp; inventions exist already.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27AF-5C02-4F8B-A560-24473E0CB9B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7A1499-7BAD-4594-80A8-DC3FAFEE3C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04920" y="1352520"/>
            <a:ext cx="7143480" cy="535320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7543800" y="1600200"/>
            <a:ext cx="1600200" cy="4724280"/>
            <a:chOff x="7543800" y="1600200"/>
            <a:chExt cx="1600200" cy="4724280"/>
          </a:xfrm>
        </p:grpSpPr>
        <p:sp>
          <p:nvSpPr>
            <p:cNvPr id="87" name=""/>
            <p:cNvSpPr/>
            <p:nvPr/>
          </p:nvSpPr>
          <p:spPr>
            <a:xfrm>
              <a:off x="7543800" y="1600200"/>
              <a:ext cx="1600200" cy="4724280"/>
            </a:xfrm>
            <a:prstGeom prst="verticalScroll">
              <a:avLst>
                <a:gd name="adj" fmla="val 12500"/>
              </a:avLst>
            </a:prstGeom>
            <a:solidFill>
              <a:srgbClr val="e9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46840" y="2057400"/>
              <a:ext cx="1219320" cy="38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formation technology is a small fraction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ut part of many ap-plication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Gadgets make pretty pictures. Software does not.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C0E0-488B-4557-8001-2065F8F920F4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69FAD9-BC46-438B-AC48-04BD2F3C05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3:46Z</dcterms:created>
  <dc:creator>Gio Wiederhold</dc:creator>
  <dc:description/>
  <dc:language>en-US</dc:language>
  <cp:lastModifiedBy>Gio Wiederhold</cp:lastModifiedBy>
  <dcterms:modified xsi:type="dcterms:W3CDTF">2005-05-31T08:27:30Z</dcterms:modified>
  <cp:revision>23</cp:revision>
  <dc:subject/>
  <dc:title>Funding in the U.S. Semantics, Web, Services</dc:title>
</cp:coreProperties>
</file>