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C24F-C0A5-42F2-9FBC-51B8638165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C is thinking about EU data repositories/regis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Distributing data means thinking ahead the intellectual property implications of development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Why: cfr Paul Graham’s essay « why smart people have bad ideas » http://www.paulgraham.com/bronze.html Try to actually solve someone’s problem, don’t be exclusively driven by techn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Aids pre-proposal anecd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xciting as in Slashdot snipp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Maybe people want to stay vague to avoid contractual lock-in. Contractual amendments give flex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xample: gene knock-off experimental 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DG INFSO/E2 has been an early supporter of Semantic Web technology, immediately after Berners Lee famous 2002 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DG INFSO/E2 probably supports more Semantic Web research than any other entity in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B54-5D98-4BC5-93D7-974C270B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0D0-8C21-4052-8BBB-097891C2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F0F-5675-4A7B-9D65-CE8A5D75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19B-2F7F-4FE8-AB7A-04975908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6CD-354E-43E7-BA46-D4F171B0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CAA-DD9F-4E00-96AD-77EDE80F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C26-C28F-455D-8DB6-3CC094FD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D89-4CBA-437C-B3C7-F462BCD6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78B-0BCC-4DC9-9224-5648CA81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94A-7067-4F07-BEF5-9B9A63B6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9F6-A37E-4E09-A567-FE104BAA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E4F8-11E8-4CD2-BD22-36204AC8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9281-AEA9-49BE-9BA9-CD116186CB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p6.cordis.lu/fp6/call_details.cfm?CALL_ID=208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rdis.lu/fp7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ffff"/>
                </a:solidFill>
                <a:latin typeface="Arial"/>
              </a:rPr>
              <a:t>Funding strategies for the Semantic Web: current activities and future trends in the European Un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828036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Stefano Bertolo, European Com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DG Information Society and Media, Unit E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stefano.bertolo@cec.eu.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European Semantic Web Confer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Heraklion, 31 May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ffff"/>
                </a:solidFill>
                <a:latin typeface="Arial"/>
              </a:rPr>
              <a:t>DG INFSO/E2 in FP7 looking for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More multimedia knowledge extraction and reu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DG Information Society and </a:t>
            </a:r>
            <a:r>
              <a:rPr b="0" lang="fr-BE" sz="2800" spc="-1" strike="noStrike">
                <a:solidFill>
                  <a:srgbClr val="66ff33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Our portfolio is ‘text-heavy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Dissemination = shared components/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Want to see content/media producers use tools built by SW engin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Greater emphasis on building communities beyond researchers,including IT integrators, early adop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ffff"/>
                </a:solidFill>
                <a:latin typeface="Arial"/>
              </a:rPr>
              <a:t>DG INFSO/E2 in FP7 looking for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olutions = things YOU would want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Don’t assume you can start from scratch: show integration of legacy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Don’t scare away users with steep learning cu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Eat your own dog food’: if you are not using your technology, why should oth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Don’t just build individual tools, architect a system in which they cooperate relia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Don’t just design standards, show how they come together in a coherent stack to solve independently motivated problems that can’t be solved with existing tools/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ffff"/>
                </a:solidFill>
                <a:latin typeface="Arial"/>
              </a:rPr>
              <a:t>DG INFSO/E2 in FP7 looking for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Persistence = tools/data and research communities that thrive after EC funding is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Don’t just expect it will happen: plan for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Open Source whenever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Distribute data: people learn from your data as much as from your code (and data is more expensive to coll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Plan for transportable test-be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Third parties should be able to replicate your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Prepare your data and protocols as you would want to find them if you were to replicate somebody else’s experi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Strate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Understand </a:t>
            </a:r>
            <a:r>
              <a:rPr b="0" lang="fr-BE" sz="2800" spc="-1" strike="noStrike">
                <a:solidFill>
                  <a:srgbClr val="66ff33"/>
                </a:solidFill>
                <a:latin typeface="Arial"/>
              </a:rPr>
              <a:t>what</a:t>
            </a: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we are asking for and </a:t>
            </a:r>
            <a:r>
              <a:rPr b="0" lang="fr-BE" sz="2800" spc="-1" strike="noStrike">
                <a:solidFill>
                  <a:srgbClr val="66ff33"/>
                </a:solidFill>
                <a:latin typeface="Arial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why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: make EU economy more competitive through use of advanced technology (Lisbon objectiv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mid-term return on research investment (not to the exclusion of basic resear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Help us recognise/define FP7 strategic objectiv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Scale of ambition is to solve problems, not climb citation ind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what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: make sure what you are proposing would be recognized by a reasonable person as part of our published strategic 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what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: solve EU-sized problems, not the integration problems of a single S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Strate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Understand </a:t>
            </a:r>
            <a:r>
              <a:rPr b="0" lang="fr-BE" sz="2800" spc="-1" strike="noStrike">
                <a:solidFill>
                  <a:srgbClr val="66ff33"/>
                </a:solidFill>
                <a:latin typeface="Arial"/>
              </a:rPr>
              <a:t>how</a:t>
            </a: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proposals are evalu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problem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 is stated in the SO: from you we want to hear the </a:t>
            </a: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solution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If you have a </a:t>
            </a: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solution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 please explain your </a:t>
            </a: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plan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, i.e. all the technical steps: reviewers can be expected to be knowledge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If you have a </a:t>
            </a: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plan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, explain how you will </a:t>
            </a: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manage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 i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Who will do what, why, with what resources and on what time-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Project fail when things don’t go as planned: do credible contingency 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Strate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Understand </a:t>
            </a:r>
            <a:r>
              <a:rPr b="0" lang="fr-BE" sz="3200" spc="-1" strike="noStrike">
                <a:solidFill>
                  <a:srgbClr val="66ff33"/>
                </a:solidFill>
                <a:latin typeface="Arial"/>
              </a:rPr>
              <a:t>how</a:t>
            </a: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 proposals are evalu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Your proposal has competition: make sure the main ideas are exciting and clearly differentiate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Avoid echoing keywords from call’s 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Reviewing is hard wor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help the reviewers get a very concrete idea of what you want to d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Ambition is excellent if backed up by credible plans; unsubstantiated exagerations alienate revie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Strate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Look for convergence/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Build tools that will speed progress in other projects (solve someone else’s probl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Use data that comes out of other projects (exploit clean seman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Create data that can be used by other projects (provide clean seman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Current Semantic Web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FP6 Call 1 and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Future Semantic Web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FP6 Call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FP6 Call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FP6 Call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FP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Understand what we are asking for and w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Understand how we eval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Current FP6 activi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Total FP6 Call 1 and 2 funding: 137M 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all 1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AceMedia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e701"/>
                </a:solidFill>
                <a:latin typeface="Arial"/>
              </a:rPr>
              <a:t>Aim@Shape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ccffff"/>
                </a:solidFill>
                <a:latin typeface="Arial"/>
              </a:rPr>
              <a:t>AgentLinkIII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Alvis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Aspic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DIP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DirectInfo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00ffff"/>
                </a:solidFill>
                <a:latin typeface="Arial"/>
              </a:rPr>
              <a:t>Knowledge Board 2.0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e701"/>
                </a:solidFill>
                <a:latin typeface="Arial"/>
              </a:rPr>
              <a:t>Knowledge Web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Metokis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e701"/>
                </a:solidFill>
                <a:latin typeface="Arial"/>
              </a:rPr>
              <a:t>Muscle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News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e701"/>
                </a:solidFill>
                <a:latin typeface="Arial"/>
              </a:rPr>
              <a:t>Rewerse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Simac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SEKT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VIK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all 2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e701"/>
                </a:solidFill>
                <a:latin typeface="Arial"/>
              </a:rPr>
              <a:t>3DTV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Axmedis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Content4All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GameTools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Holonics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ccffff"/>
                </a:solidFill>
                <a:latin typeface="Arial"/>
              </a:rPr>
              <a:t>Inccom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Inscape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IperG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IP-Racine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M-Pipe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NM2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Peng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Polymnia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Reveal This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WalkOnWeb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World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ftp://ftp.cordis.lu/pub/ist/docs/directorate_e/kmcc/call1and2_project_factsheets_v2.d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Current FP6 activi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FP6 Call 1 and 2 emphasis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Convergence between web services and semantic an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tandards for semantic an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(semi)automatic extraction of semantic annotation from text, images, vid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calability, robustness, distributedness of KR and rea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Environments for KR (methodologies, editors, medi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Lack of temporal/dynamic K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Future FP6 activities: Call 4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152 proposals requesting 530M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1360 participants from 39 countries (reaching beyond E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34.8% public/gov, 33.5% industry, 21.7% not-for-pro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Selection close to end: expect to fund ~25 projects, ~124M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Continued but not exclusive focus on semantic web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Future FP6 activities: call 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Closing 21 sept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fp6.cordis.lu/fp6/call_details.cfm?CALL_ID=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No strategic objective from DG INFSO/E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Infrastructure-oriented (Gr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Opportunities und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emantic g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Large test-b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Large cultural/scientific arch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Future FP6 activities: call 6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Likely to be published at the end of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Relatively modest budget: ~10M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Focus: search technologies for audiovisual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Rationale: trying to integrate into usable infrastructure components that are presently being developed separ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FP7 activi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FP7 to run 2007-20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 proposal published April 2005 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cordis.lu/fp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Public consultations Fall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First call early 2007, project start end 200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ICT remains top priority, budget may increase substantially (12B€ reques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DG INFSO/E2 to continue SW research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FP7 novel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Projects vs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European Research Cou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investigator-driven research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cordis.lu/fp7/ideas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1:52:06Z</dcterms:created>
  <dc:creator>bertoso</dc:creator>
  <dc:description/>
  <dc:language>en-US</dc:language>
  <cp:lastModifiedBy>bertoso</cp:lastModifiedBy>
  <dcterms:modified xsi:type="dcterms:W3CDTF">2005-05-27T17:57:06Z</dcterms:modified>
  <cp:revision>27</cp:revision>
  <dc:subject/>
  <dc:title>Funding strategies for the Semantic Web: current activities and future trends</dc:title>
</cp:coreProperties>
</file>