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5080" y="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5720"/>
            <a:ext cx="29354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5080" y="9405720"/>
            <a:ext cx="293508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5A6D-A999-438F-A9D4-8B4F426BFF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EC is thinking about EU data repositories/regis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Distributing data means thinking ahead the intellectual property implications of development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Why: cfr Paul Graham’s essay « why smart people have bad ideas » http://www.paulgraham.com/bronze.html Try to actually solve someone’s problem, don’t be exclusively driven by techn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Aids pre-proposal anecd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Exciting as in Slashdot snipp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Maybe people want to stay vague to avoid contractual lock-in. Contractual amendments give flexi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Example: gene knock-off experimental pip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DG INFSO/E2 has been an early supporter of Semantic Web technology, immediately after Berners Lee famous 2002 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DG INFSO/E2 probably supports more Semantic Web research than any other entity in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63B-3CF2-40D1-9CBE-40651B94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F13D-8477-4555-9232-6A9EFC0B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F132-E181-4EA4-8DCE-FCDC1873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0A7-70C3-4189-B338-335911D8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C3C-8C9A-42D1-821C-FC28F01B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942-39CB-4AD7-99D0-8852239F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8D67-0B8A-4DC7-B152-CDC73185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165-F855-464D-9326-3CA35B50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1AD-1AE2-4D21-8A62-98E3AB7C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091-A784-4413-829D-1723146C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97AD-CC81-4877-BAE9-FCDCB605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939-011C-4732-9128-50EFD0FE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B3E4-5FE2-4765-A33E-E6BEE9F81E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p6.cordis.lu/fp6/call_details.cfm?CALL_ID=208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rdis.lu/fp7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ffff"/>
                </a:solidFill>
                <a:latin typeface="Arial"/>
              </a:rPr>
              <a:t>Funding strategies for the Semantic Web: current activities and future trends in the European Un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828036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Stefano Bertolo, European Com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DG Information Society and Media, Unit E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stefano.bertolo@cec.eu.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European Semantic Web Confere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Heraklion, 31 May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ffff"/>
                </a:solidFill>
                <a:latin typeface="Arial"/>
              </a:rPr>
              <a:t>DG INFSO/E2 in FP7 looking for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More multimedia knowledge extraction and reu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DG Information Society and </a:t>
            </a:r>
            <a:r>
              <a:rPr b="0" lang="fr-BE" sz="2800" spc="-1" strike="noStrike">
                <a:solidFill>
                  <a:srgbClr val="66ff33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Our portfolio is ‘text-heavy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Dissemination = shared components/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Want to see content/media producers use tools built by SW engin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Greater emphasis on building communities beyond researchers,including IT integrators, early adop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ffff"/>
                </a:solidFill>
                <a:latin typeface="Arial"/>
              </a:rPr>
              <a:t>DG INFSO/E2 in FP7 looking for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Solutions = things YOU would want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Don’t assume you can start from scratch: show integration of legacy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Don’t scare away users with steep learning cu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Eat your own dog food’: if you are not using your technology, why should oth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Don’t just build individual tools, architect a system in which they cooperate relia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Don’t just design standards, show how they come together in a coherent stack to solve independently motivated problems that can’t be solved with existing tools/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ffff"/>
                </a:solidFill>
                <a:latin typeface="Arial"/>
              </a:rPr>
              <a:t>DG INFSO/E2 in FP7 looking for: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Persistence = tools/data and research communities that thrive after EC funding is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Don’t just expect it will happen: plan for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Open Source whenever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Distribute data: people learn from your data as much as from your code (and data is more expensive to coll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Plan for transportable test-be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Third parties should be able to replicate your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Prepare your data and protocols as you would want to find them if you were to replicate somebody else’s experi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Strateg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Understand </a:t>
            </a:r>
            <a:r>
              <a:rPr b="0" lang="fr-BE" sz="2800" spc="-1" strike="noStrike">
                <a:solidFill>
                  <a:srgbClr val="66ff33"/>
                </a:solidFill>
                <a:latin typeface="Arial"/>
              </a:rPr>
              <a:t>what</a:t>
            </a: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 we are asking for and </a:t>
            </a:r>
            <a:r>
              <a:rPr b="0" lang="fr-BE" sz="2800" spc="-1" strike="noStrike">
                <a:solidFill>
                  <a:srgbClr val="66ff33"/>
                </a:solidFill>
                <a:latin typeface="Arial"/>
              </a:rPr>
              <a:t>w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ff33"/>
                </a:solidFill>
                <a:latin typeface="Arial"/>
              </a:rPr>
              <a:t>why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: make EU economy more competitive through use of advanced technology (Lisbon objective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mid-term return on research investment (not to the exclusion of basic resear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Help us recognise/define FP7 strategic objectiv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Scale of ambition is to solve problems, not climb citation ind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ff33"/>
                </a:solidFill>
                <a:latin typeface="Arial"/>
              </a:rPr>
              <a:t>what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: make sure what you are proposing would be recognized by a reasonable person as part of our published strategic 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66ff33"/>
                </a:solidFill>
                <a:latin typeface="Arial"/>
              </a:rPr>
              <a:t>what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: solve EU-sized problems, not the integration problems of a single S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Strateg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Understand </a:t>
            </a:r>
            <a:r>
              <a:rPr b="0" lang="fr-BE" sz="2800" spc="-1" strike="noStrike">
                <a:solidFill>
                  <a:srgbClr val="66ff33"/>
                </a:solidFill>
                <a:latin typeface="Arial"/>
              </a:rPr>
              <a:t>how</a:t>
            </a: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 proposals are evalu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fr-BE" sz="2400" spc="-1" strike="noStrike">
                <a:solidFill>
                  <a:srgbClr val="66ff33"/>
                </a:solidFill>
                <a:latin typeface="Arial"/>
              </a:rPr>
              <a:t>problem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 is stated in the SO: from you we want to hear the </a:t>
            </a:r>
            <a:r>
              <a:rPr b="0" lang="fr-BE" sz="2400" spc="-1" strike="noStrike">
                <a:solidFill>
                  <a:srgbClr val="66ff33"/>
                </a:solidFill>
                <a:latin typeface="Arial"/>
              </a:rPr>
              <a:t>solution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If you have a </a:t>
            </a:r>
            <a:r>
              <a:rPr b="0" lang="fr-BE" sz="2400" spc="-1" strike="noStrike">
                <a:solidFill>
                  <a:srgbClr val="66ff33"/>
                </a:solidFill>
                <a:latin typeface="Arial"/>
              </a:rPr>
              <a:t>solution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 please explain your </a:t>
            </a:r>
            <a:r>
              <a:rPr b="0" lang="fr-BE" sz="2400" spc="-1" strike="noStrike">
                <a:solidFill>
                  <a:srgbClr val="66ff33"/>
                </a:solidFill>
                <a:latin typeface="Arial"/>
              </a:rPr>
              <a:t>plan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, i.e. all the technical steps: reviewers can be expected to be knowledge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If you have a </a:t>
            </a:r>
            <a:r>
              <a:rPr b="0" lang="fr-BE" sz="2400" spc="-1" strike="noStrike">
                <a:solidFill>
                  <a:srgbClr val="66ff33"/>
                </a:solidFill>
                <a:latin typeface="Arial"/>
              </a:rPr>
              <a:t>plan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, explain how you will </a:t>
            </a:r>
            <a:r>
              <a:rPr b="0" lang="fr-BE" sz="2400" spc="-1" strike="noStrike">
                <a:solidFill>
                  <a:srgbClr val="66ff33"/>
                </a:solidFill>
                <a:latin typeface="Arial"/>
              </a:rPr>
              <a:t>manage</a:t>
            </a: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 i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Who will do what, why, with what resources and on what time-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Project fail when things don’t go as planned: do credible contingency pl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Strateg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Understand </a:t>
            </a:r>
            <a:r>
              <a:rPr b="0" lang="fr-BE" sz="3200" spc="-1" strike="noStrike">
                <a:solidFill>
                  <a:srgbClr val="66ff33"/>
                </a:solidFill>
                <a:latin typeface="Arial"/>
              </a:rPr>
              <a:t>how</a:t>
            </a: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 proposals are evalu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Your proposal has competition: make sure the main ideas are exciting and clearly differentiate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Avoid echoing keywords from call’s 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Reviewing is hard work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help the reviewers get a very concrete idea of what you want to d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Ambition is excellent if backed up by credible plans; unsubstantiated exagerations alienate review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Strateg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Look for convergence/r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Build tools that will speed progress in other projects (solve someone else’s probl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Use data that comes out of other projects (exploit clean semant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Create data that can be used by other projects (provide clean semant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Current Semantic Web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FP6 Call 1 and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Future Semantic Web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FP6 Call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FP6 Call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FP6 Call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FP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Understand what we are asking for and w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Understand how we evalu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Current FP6 activit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Total FP6 Call 1 and 2 funding: 137M 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Call 1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66"/>
                </a:solidFill>
                <a:latin typeface="Arial"/>
              </a:rPr>
              <a:t>AceMedia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e701"/>
                </a:solidFill>
                <a:latin typeface="Arial"/>
              </a:rPr>
              <a:t>Aim@Shape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ccffff"/>
                </a:solidFill>
                <a:latin typeface="Arial"/>
              </a:rPr>
              <a:t>AgentLinkIII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Alvis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Aspic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0066"/>
                </a:solidFill>
                <a:latin typeface="Arial"/>
              </a:rPr>
              <a:t>DIP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DirectInfo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00ffff"/>
                </a:solidFill>
                <a:latin typeface="Arial"/>
              </a:rPr>
              <a:t>Knowledge Board 2.0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e701"/>
                </a:solidFill>
                <a:latin typeface="Arial"/>
              </a:rPr>
              <a:t>Knowledge Web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Metokis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e701"/>
                </a:solidFill>
                <a:latin typeface="Arial"/>
              </a:rPr>
              <a:t>Muscle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News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e701"/>
                </a:solidFill>
                <a:latin typeface="Arial"/>
              </a:rPr>
              <a:t>Rewerse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Simac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0066"/>
                </a:solidFill>
                <a:latin typeface="Arial"/>
              </a:rPr>
              <a:t>SEKT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0066"/>
                </a:solidFill>
                <a:latin typeface="Arial"/>
              </a:rPr>
              <a:t>VIK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Call 2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e701"/>
                </a:solidFill>
                <a:latin typeface="Arial"/>
              </a:rPr>
              <a:t>3DTV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0066"/>
                </a:solidFill>
                <a:latin typeface="Arial"/>
              </a:rPr>
              <a:t>Axmedis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Content4All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GameTools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Holonics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ccffff"/>
                </a:solidFill>
                <a:latin typeface="Arial"/>
              </a:rPr>
              <a:t>Inccom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0066"/>
                </a:solidFill>
                <a:latin typeface="Arial"/>
              </a:rPr>
              <a:t>Inscape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0066"/>
                </a:solidFill>
                <a:latin typeface="Arial"/>
              </a:rPr>
              <a:t>IperG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0066"/>
                </a:solidFill>
                <a:latin typeface="Arial"/>
              </a:rPr>
              <a:t>IP-Racine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M-Pipe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0066"/>
                </a:solidFill>
                <a:latin typeface="Arial"/>
              </a:rPr>
              <a:t>NM2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Peng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ff0066"/>
                </a:solidFill>
                <a:latin typeface="Arial"/>
              </a:rPr>
              <a:t>Polymnia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Reveal This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WalkOnWeb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fr-BE" sz="2000" spc="-1" strike="noStrike">
                <a:solidFill>
                  <a:srgbClr val="66ff33"/>
                </a:solidFill>
                <a:latin typeface="Arial"/>
              </a:rPr>
              <a:t>World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ftp://ftp.cordis.lu/pub/ist/docs/directorate_e/kmcc/call1and2_project_factsheets_v2.d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Current FP6 activit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FP6 Call 1 and 2 emphasis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Convergence between web services and semantic an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Standards for semantic an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(semi)automatic extraction of semantic annotation from text, images, vid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Scalability, robustness, distributedness of KR and reas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Environments for KR (methodologies, editors, media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Lack of temporal/dynamic K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Future FP6 activities: Call 4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152 proposals requesting 530M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1360 participants from 39 countries (reaching beyond E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34.8% public/gov, 33.5% industry, 21.7% not-for-prof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Selection close to end: expect to fund ~25 projects, ~124M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Continued but not exclusive focus on semantic web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Future FP6 activities: call 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Closing 21 sept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fp6.cordis.lu/fp6/call_details.cfm?CALL_ID=2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No strategic objective from DG INFSO/E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Infrastructure-oriented (Gr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Opportunities und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Semantic gr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Large test-b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Large cultural/scientific archi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Future FP6 activities: call 6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Likely to be published at the end of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Relatively modest budget: ~10M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Focus: search technologies for audiovisual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Rationale: trying to integrate into usable infrastructure components that are presently being developed separa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FP7 activit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FP7 to run 2007-20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 proposal published April 2005 </a:t>
            </a: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w.cordis.lu/fp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Public consultations Fall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First call early 2007, project start end 200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ICT remains top priority, budget may increase substantially (12B€ reques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DG INFSO/E2 to continue SW research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ffff"/>
                </a:solidFill>
                <a:latin typeface="Arial"/>
              </a:rPr>
              <a:t>FP7 novelt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Projects vs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European Research Cou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investigator-driven research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tp://www.cordis.lu/fp7/ideas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11:52:06Z</dcterms:created>
  <dc:creator>bertoso</dc:creator>
  <dc:description/>
  <dc:language>en-US</dc:language>
  <cp:lastModifiedBy>bertoso</cp:lastModifiedBy>
  <dcterms:modified xsi:type="dcterms:W3CDTF">2005-05-27T17:57:06Z</dcterms:modified>
  <cp:revision>27</cp:revision>
  <dc:subject/>
  <dc:title>Funding strategies for the Semantic Web: current activities and future trends</dc:title>
</cp:coreProperties>
</file>