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448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332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600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448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332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2E7D-A4F9-4014-ADA9-A5DBBF91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ED0A-CEE0-45C1-BCB4-D0E0C96E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11DD-5D52-4573-8200-52F4ED70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B826-BAEE-4533-802F-9097055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915-0DDC-45AC-AF3E-426924DF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40" y="342720"/>
            <a:ext cx="872496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84B3-0274-4899-973B-B55C77D6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EC6D-FC6E-482F-80A2-B2E96E4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9D8E-A244-4081-A225-F11AA3D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2078-753F-4E9F-B559-F27C025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C5EE-F9C1-4E12-8C59-4905B8C5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1A50-ACB7-4A81-88FF-92CE5CFF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448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332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600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448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332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D6BD-05E3-421F-8385-210905CD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40" y="342720"/>
            <a:ext cx="872496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rId2" action="ppaction://hlinksldjump"/>
          </p:cNvPr>
          <p:cNvSpPr/>
          <p:nvPr/>
        </p:nvSpPr>
        <p:spPr>
          <a:xfrm>
            <a:off x="0" y="25146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3" action="ppaction://hlinksldjump"/>
          </p:cNvPr>
          <p:cNvSpPr/>
          <p:nvPr/>
        </p:nvSpPr>
        <p:spPr>
          <a:xfrm>
            <a:off x="0" y="1511280"/>
            <a:ext cx="1260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4" action="ppaction://hlinksldjump"/>
          </p:cNvPr>
          <p:cNvSpPr/>
          <p:nvPr/>
        </p:nvSpPr>
        <p:spPr>
          <a:xfrm>
            <a:off x="-152280" y="21337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8794800" y="6299280"/>
            <a:ext cx="349200" cy="558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16200000">
            <a:off x="8563680" y="2638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I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>
            <a:lum bright="-18000"/>
          </a:blip>
          <a:stretch/>
        </p:blipFill>
        <p:spPr>
          <a:xfrm>
            <a:off x="8883720" y="0"/>
            <a:ext cx="260280" cy="24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Slide </a:t>
            </a:r>
            <a:fld id="{3B1DFA1B-5B82-48CD-B3A2-7CC44B65E178}" type="slidenum">
              <a:rPr b="1" lang="en-US" sz="11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A208-08F7-4E96-B809-545502C11D67}" type="datetime">
              <a:rPr b="1" lang="en-US" sz="1100" spc="-1" strike="noStrike">
                <a:solidFill>
                  <a:srgbClr val="009999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550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880" y="507600"/>
            <a:ext cx="819144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nel: “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Funding Strategies for the Semantic Web: </a:t>
            </a:r>
            <a:br>
              <a:rPr sz="3200"/>
            </a:b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Current Activities and Future Trends</a:t>
            </a:r>
            <a:r>
              <a:rPr b="1" lang="de-DE" sz="4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udi Stud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6184800"/>
            <a:ext cx="3810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WC‘2005, May 31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4114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e AIFB, University of Karlsru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de-DE" sz="1600" spc="-1" strike="noStrike" u="sng">
                <a:solidFill>
                  <a:srgbClr val="3366cc"/>
                </a:solidFill>
                <a:uFillTx/>
                <a:latin typeface="Arial"/>
              </a:rPr>
              <a:t>http://www.aifb.uni-karlsruhe.de/W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ZI Research Center for Informatio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600" spc="-1" strike="noStrike" u="sng">
                <a:solidFill>
                  <a:srgbClr val="3366cc"/>
                </a:solidFill>
                <a:uFillTx/>
                <a:latin typeface="Arial"/>
              </a:rPr>
              <a:t>http://www.fzi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oprise GmbH, Karlsru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600" spc="-1" strike="noStrike" u="sng">
                <a:solidFill>
                  <a:srgbClr val="3366cc"/>
                </a:solidFill>
                <a:uFillTx/>
                <a:latin typeface="Arial"/>
              </a:rPr>
              <a:t>http://www.ontoprise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08360" y="5435640"/>
          <a:ext cx="151776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35640"/>
                    <a:ext cx="15177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43400" y="4316400"/>
            <a:ext cx="406440" cy="70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16200000">
            <a:off x="4017960" y="3525120"/>
            <a:ext cx="8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I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4343400" y="316548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Motivation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8320" y="169560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rious funding agencies have spent and still spend a significant amount of money for Semantic Technologies / Semantic 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RPA DAML program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 significant bud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t programme is 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 5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ame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all investment in a few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 6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ame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 investment in Integrated Projects and Networks of Excell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Motivation (2)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8320" y="128916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tional funding program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ience Foundation Ire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 investment, cf. e.g. DE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KT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mantic G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mantic Web program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gnificant funding, semantics and multime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nding in some projects, e.g. Smart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Panel Topics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8320" y="1263600"/>
            <a:ext cx="793764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is the history of funding these are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is the current funding program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kind of projects are funde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ze of the project in terms of part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ucture in terms of type of institutions being inv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mount of money made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nding sche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have been major achievements and or failur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Panel Topics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8320" y="169560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plans for the 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kind of innovation deserves fu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pics, structure of programmes, bud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are success 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situation i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Panelis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8320" y="169560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o Wiederhold, Stanford Univ. &amp; Mitre Co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fano Bertolo, European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9:59:34Z</dcterms:created>
  <dc:creator>Rudi Studer</dc:creator>
  <dc:description/>
  <dc:language>en-US</dc:language>
  <cp:lastModifiedBy>Rudi Studer</cp:lastModifiedBy>
  <cp:lastPrinted>2000-03-16T07:43:37Z</cp:lastPrinted>
  <dcterms:modified xsi:type="dcterms:W3CDTF">2005-05-31T15:18:45Z</dcterms:modified>
  <cp:revision>535</cp:revision>
  <dc:subject/>
  <dc:title>Vorstellung Karlsruhe</dc:title>
</cp:coreProperties>
</file>