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00" y="1841040"/>
            <a:ext cx="8750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6000" y="4348440"/>
            <a:ext cx="8750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6000" y="18410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9800" y="18410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6000" y="43484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9800" y="43484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6000" y="1841040"/>
            <a:ext cx="281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4480" y="1841040"/>
            <a:ext cx="281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3320" y="1841040"/>
            <a:ext cx="281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16000" y="4348440"/>
            <a:ext cx="281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4480" y="4348440"/>
            <a:ext cx="281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3320" y="4348440"/>
            <a:ext cx="281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CE749-0D9C-4CFE-9160-217CD90F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6000" y="1841040"/>
            <a:ext cx="8750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3597-4455-4CF7-8F9A-990E1FF9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6000" y="1841040"/>
            <a:ext cx="8750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FC4B6-0D2E-49FC-A618-73D13123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6000" y="1841040"/>
            <a:ext cx="426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9800" y="1841040"/>
            <a:ext cx="426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9B2F0-6745-4EA8-BB4C-B15EB757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7E66D-78C3-4502-8F37-B76C774A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90440" y="342720"/>
            <a:ext cx="872496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ABB83-1FD2-4FB0-8EA5-8D0AB3CB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6000" y="18410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9800" y="1841040"/>
            <a:ext cx="426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16000" y="43484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0085A-9F59-4CF7-95C0-0CE1FB6A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16000" y="1841040"/>
            <a:ext cx="8750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6000" y="1841040"/>
            <a:ext cx="426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9800" y="18410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9800" y="43484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324DD-B115-4EC2-A9DB-377F7325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6000" y="18410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9800" y="18410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16000" y="4348440"/>
            <a:ext cx="8750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734C0-2FCE-407B-B824-71DB51A3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6000" y="1841040"/>
            <a:ext cx="8750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16000" y="4348440"/>
            <a:ext cx="8750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12EDA-FEC2-4A2B-8F7E-694E51CA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6000" y="18410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9800" y="18410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16000" y="43484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9800" y="43484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A3F53-C8ED-4161-AABA-8633C6AB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6000" y="1841040"/>
            <a:ext cx="281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74480" y="1841040"/>
            <a:ext cx="281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33320" y="1841040"/>
            <a:ext cx="281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16000" y="4348440"/>
            <a:ext cx="281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74480" y="4348440"/>
            <a:ext cx="281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33320" y="4348440"/>
            <a:ext cx="2817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782B9-C72F-436E-9B95-B0FCEFF0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6000" y="1841040"/>
            <a:ext cx="8750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6000" y="1841040"/>
            <a:ext cx="426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9800" y="1841040"/>
            <a:ext cx="426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40" y="342720"/>
            <a:ext cx="872496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6000" y="18410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9800" y="1841040"/>
            <a:ext cx="426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6000" y="43484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6000" y="1841040"/>
            <a:ext cx="426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9800" y="18410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9800" y="43484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6000" y="18410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9800" y="1841040"/>
            <a:ext cx="4269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6000" y="4348440"/>
            <a:ext cx="8750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>
            <a:hlinkClick r:id="rId2" action="ppaction://hlinksldjump"/>
          </p:cNvPr>
          <p:cNvSpPr/>
          <p:nvPr/>
        </p:nvSpPr>
        <p:spPr>
          <a:xfrm>
            <a:off x="0" y="25146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>
            <a:hlinkClick r:id="rId3" action="ppaction://hlinksldjump"/>
          </p:cNvPr>
          <p:cNvSpPr/>
          <p:nvPr/>
        </p:nvSpPr>
        <p:spPr>
          <a:xfrm>
            <a:off x="0" y="1511280"/>
            <a:ext cx="1260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rId4" action="ppaction://hlinksldjump"/>
          </p:cNvPr>
          <p:cNvSpPr/>
          <p:nvPr/>
        </p:nvSpPr>
        <p:spPr>
          <a:xfrm>
            <a:off x="-152280" y="2133720"/>
            <a:ext cx="1143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16000" y="1841040"/>
            <a:ext cx="8750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8794800" y="6299280"/>
            <a:ext cx="349200" cy="558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rot="16200000">
            <a:off x="8563680" y="26388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IF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6">
            <a:lum bright="-18000"/>
          </a:blip>
          <a:stretch/>
        </p:blipFill>
        <p:spPr>
          <a:xfrm>
            <a:off x="8883720" y="0"/>
            <a:ext cx="260280" cy="24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9999"/>
                </a:solidFill>
                <a:latin typeface="Arial"/>
              </a:rPr>
              <a:t>Slide </a:t>
            </a:r>
            <a:fld id="{96F57992-99F3-4F53-AFB5-6A2DC2E34099}" type="slidenum">
              <a:rPr b="1" lang="en-US" sz="11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371600" y="91404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C0F6-3FCA-42EC-A80B-8EE79B11C1F1}" type="datetime">
              <a:rPr b="1" lang="en-US" sz="1100" spc="-1" strike="noStrike">
                <a:solidFill>
                  <a:srgbClr val="009999"/>
                </a:solidFill>
                <a:latin typeface="Arial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99cc"/>
              </a:buClr>
              <a:buFont typeface="Arial"/>
              <a:buChar char="•"/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550"/>
              </a:spcBef>
              <a:buClr>
                <a:srgbClr val="0099cc"/>
              </a:buClr>
              <a:buFont typeface="Arial"/>
              <a:buChar char="–"/>
              <a:tabLst>
                <a:tab algn="l" pos="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550"/>
              </a:spcBef>
              <a:buClr>
                <a:srgbClr val="0099cc"/>
              </a:buClr>
              <a:buFont typeface="Arial"/>
              <a:buChar char="•"/>
              <a:tabLst>
                <a:tab algn="l" pos="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6880" y="507600"/>
            <a:ext cx="819144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anel: “</a:t>
            </a: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Funding Strategies for the Semantic Web: </a:t>
            </a:r>
            <a:br>
              <a:rPr sz="3200"/>
            </a:b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Current Activities and Future Trends</a:t>
            </a:r>
            <a:r>
              <a:rPr b="1" lang="de-DE" sz="43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”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udi Studer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6184800"/>
            <a:ext cx="3810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WC‘2005, May 31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200400"/>
            <a:ext cx="4114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itute AIFB, University of Karlsru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de-DE" sz="1600" spc="-1" strike="noStrike" u="sng">
                <a:solidFill>
                  <a:srgbClr val="3366cc"/>
                </a:solidFill>
                <a:uFillTx/>
                <a:latin typeface="Arial"/>
              </a:rPr>
              <a:t>http://www.aifb.uni-karlsruhe.de/W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ZI Research Center for Information 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1600" spc="-1" strike="noStrike" u="sng">
                <a:solidFill>
                  <a:srgbClr val="3366cc"/>
                </a:solidFill>
                <a:uFillTx/>
                <a:latin typeface="Arial"/>
              </a:rPr>
              <a:t>http://www.fzi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toprise GmbH, Karlsru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r>
              <a:rPr b="0" lang="en-US" sz="1600" spc="-1" strike="noStrike" u="sng">
                <a:solidFill>
                  <a:srgbClr val="3366cc"/>
                </a:solidFill>
                <a:uFillTx/>
                <a:latin typeface="Arial"/>
              </a:rPr>
              <a:t>http://www.ontoprise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0560"/>
                <a:tab algn="l" pos="2120760"/>
                <a:tab algn="l" pos="3181320"/>
                <a:tab algn="l" pos="4241880"/>
                <a:tab algn="l" pos="5302080"/>
                <a:tab algn="l" pos="6362640"/>
                <a:tab algn="l" pos="7423200"/>
                <a:tab algn="l" pos="8483760"/>
                <a:tab algn="l" pos="9543960"/>
                <a:tab algn="l" pos="106045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708360" y="5435640"/>
          <a:ext cx="151776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5435640"/>
                    <a:ext cx="151776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343400" y="4316400"/>
            <a:ext cx="406440" cy="704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rot="16200000">
            <a:off x="4017960" y="3525120"/>
            <a:ext cx="8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IF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>
            <a:lum bright="-18000"/>
          </a:blip>
          <a:stretch/>
        </p:blipFill>
        <p:spPr>
          <a:xfrm>
            <a:off x="4343400" y="316548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3366"/>
                </a:solidFill>
                <a:latin typeface="Arial"/>
              </a:rPr>
              <a:t>Motivation 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8320" y="1695600"/>
            <a:ext cx="793764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arious funding agencies have spent and still spend a significant amount of money for Semantic Technologies / Semantic We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ARPA DAML program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irst significant budg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ut programme is en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U 5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frame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mall investment in a few pro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U 6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frame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jor investment in Integrated Projects and Networks of Excell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3366"/>
                </a:solidFill>
                <a:latin typeface="Arial"/>
              </a:rPr>
              <a:t>Motivation (2) 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8320" y="1289160"/>
            <a:ext cx="793764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ational funding program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cience Foundation Irel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jor investment, cf. e.g. DER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KT pro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mantic Gr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mantic Web program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Netherla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gnificant funding, semantics and multimed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unding in some projects, e.g. SmartWe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3366"/>
                </a:solidFill>
                <a:latin typeface="Arial"/>
              </a:rPr>
              <a:t>Panel Topics 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8320" y="1263600"/>
            <a:ext cx="793764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is the history of funding these area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is the current funding programm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kind of projects are funded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ze of the project in terms of partn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ructure in terms of type of institutions being involv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mount of money made avail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unding sche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have been major achievements and or failur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3366"/>
                </a:solidFill>
                <a:latin typeface="Arial"/>
              </a:rPr>
              <a:t>Panel Topics 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8320" y="1695600"/>
            <a:ext cx="793764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plans for the 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kind of innovation deserves fun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pics, structure of programmes, budg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are success crit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situation i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40" y="342720"/>
            <a:ext cx="872496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3366"/>
                </a:solidFill>
                <a:latin typeface="Arial"/>
              </a:rPr>
              <a:t>Panelis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8320" y="1695600"/>
            <a:ext cx="793764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o Wiederhold, Stanford Univ. &amp; Mitre Cor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fano Bertolo, European Com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9T19:59:34Z</dcterms:created>
  <dc:creator>Rudi Studer</dc:creator>
  <dc:description/>
  <dc:language>en-US</dc:language>
  <cp:lastModifiedBy>Rudi Studer</cp:lastModifiedBy>
  <cp:lastPrinted>2000-03-16T07:43:37Z</cp:lastPrinted>
  <dcterms:modified xsi:type="dcterms:W3CDTF">2005-05-31T15:18:45Z</dcterms:modified>
  <cp:revision>535</cp:revision>
  <dc:subject/>
  <dc:title>Vorstellung Karlsruhe</dc:title>
</cp:coreProperties>
</file>